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23.png" ContentType="image/png"/>
  <Override PartName="/ppt/media/image30.gif" ContentType="image/gif"/>
  <Override PartName="/ppt/media/image8.png" ContentType="image/png"/>
  <Override PartName="/ppt/media/image37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36AD-289F-48DD-888B-C5982D2E8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4ED7-FF4B-4366-AF1D-E40BC8BB5F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8FD9-FA53-48C2-9AC6-B5C7103C37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E057-F8E4-4C3A-A592-AB2DD3FB77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8C51-AC9E-4126-8946-E70460D839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AF94-C48F-4665-B668-865EEE009B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022C-287B-48E7-9670-81C79C48D1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E6B1-DB9A-4F3D-93B0-CFFAD4F235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36DA-E6A5-4D00-B10D-7D7CD3E3D8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4E18-4D0E-4BD2-B521-91A257530D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669B-7B29-4C33-96E0-06AF09EA41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05DF7-20EF-4016-A1DC-42176B2FF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D691-357E-4E06-B0E5-C78D6077135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E119F-C10E-41FF-AF7D-6F48340490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234DB-72F2-416B-8844-CF36A5AAC61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68574-DCD8-4ADB-A339-24697BD653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5E15F-E304-4ECA-8EDE-BCE203A4B96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C734C-931F-48A3-BF57-7A9D48E5C0A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1781A-90D9-4EF1-BDCB-8F08305000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49EA8-FE98-4574-A027-BA932455E4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C5EC7-992F-42F0-BF8A-56849ABA24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B4CC7-4D94-4944-A188-EA31156B6D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982E4-4F34-4675-8F2F-70CB83C7D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C75E-4670-451D-9FC8-FCC8043285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AA9E1-1B13-4251-A75E-9AE811851A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2E9AC-9158-48FB-9CF0-D81211E4A0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6750E-A648-47FD-9E9C-F82F053F5F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50C1C-344B-495C-9809-BC8C167226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55BB0-318E-47BB-B3C6-13EA815C685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D831D-A36B-4266-805D-A338BE9E73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654DA-3F91-4FBD-8DF6-2A4B160734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3AA1C-D3EE-4293-94DB-2B6D4AE884C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96E96-B57B-461D-9E1B-59C5973FFB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37F63-4E13-4758-A2B3-25AE3E9F6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2B16-1D15-4E94-A84C-A68EE76E40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F735B-46EE-414F-BE1D-B925ECEAB6D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5FB0C-2759-4D67-8BE8-F95C4CAA67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B542A-9AB7-4F5B-992C-B02DADE552F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DEDA-198F-49AD-BE08-FF2CF7ED5C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9E3A-B51D-41A5-BCCA-BBD41E0D03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2AB7-AE84-4121-9CBD-2624DE5E0E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8C67-1F46-4665-B777-E211E62BA2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DCF9-5556-4FBA-AA76-B71D0CAD2A8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DFB8-1A8E-4968-86C0-8CBDB4CB302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598E-65A3-4F40-BC33-DC05E73BE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A2BF-CB3A-4015-88D3-B36432FD90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0843-617F-48BD-A3B0-8818AAC479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DDE0-36BE-4514-879E-6713EA5613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52AE9-636C-4133-9DC1-BF959F3644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59C3-8E60-45C2-8FE0-0CAEA1EAB7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D870-FA9F-4429-9785-7223D5BEAC0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6D6CFB-592B-4E57-B3D4-38DA3CC56F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6552E8-B422-4DF7-B864-309AA9AA6C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C92CC-AE60-4989-BD2B-C76927D4CA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2D569-DF41-4C0E-ABDD-1E6F99A22E4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14B27-7D2E-4804-BA89-8596EF7957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73EC-E8E8-4AE4-9412-A5E1A02F02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A6D2E-A3A0-4495-91C8-8B6DA05654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9686F-CE26-4041-B3E8-06F1C82A93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5D1D2-3843-497C-85B3-B1CCEFF892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8012B-9399-4459-8E32-B3AF9FD4B1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3BD00-77C8-40CD-A7A2-811B30CE1C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6D0B88-7B3C-4391-8F0F-01D6AC36B6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4DE56-A1CA-454D-BD69-0879661387D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12707-A961-4884-9F51-9930FD78440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480C5-E647-407C-B2A7-FAAC8512D26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72F0F-5854-44DF-AE14-C2024AF7F6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B969-41FB-413C-B58F-DB49962C12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120DB-55B2-4DD4-9348-5ED3370B42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F9FF6-668C-4F40-B3AC-4F76E27DAD8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3E383-CD31-4C1B-A9F4-8A2B66C6C56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38DEF-6A12-4A89-9F0B-D71B11CBD8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B5E65-4947-463C-A04C-2881B797DF0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92F4D-6408-45EA-8AFC-F997D64F58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DC946-D7FF-44C3-B423-AA9566650BB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6C908-F533-41DB-92BE-F2FE0E1FBB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A1B69-D48B-445B-B49D-05CBEB25D7B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FBEC-1AE7-405F-922B-8ED4B874D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BD6F-6FE0-477A-9916-F7ABFFCD21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2401-8C2E-4C2F-A021-8B582262034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B559-C2F1-4164-9C8E-5AE39080E35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9BA57-B505-42DE-8A88-8ADF0C99E3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74E1-49AA-4CA2-9FFA-AA95F96E18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D89F-1D9E-438C-BD7A-99CD4088A8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B2AD-A63C-487A-8572-87A205F9C49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8440-24C3-4198-AA76-CAC2C4FE03B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BF29-4F0B-4476-B8DF-180DA74811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791B-C5BC-499C-8619-F0306ECCB51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FD0C-7CCE-437F-93EC-19754D5EAB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4127-B461-4566-851B-4B3DDA48034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76CB-9E2D-4CA2-AD16-4187E6F6CDE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DA187-7429-45FF-808E-5F7524275B1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2BFC7-DDFA-4E40-9D84-51E7F804360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39592-05C5-4478-9501-46370D5C9F9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9908F-BC0E-4412-95FC-1CBFBAF0F1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A65A3F-A1B2-4364-8CA3-E6288501442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E4A08-BEAA-4E3D-93E7-8D999609DB6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57901-B259-4E82-88B0-E61D67AE8C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87714-9675-4D32-971F-E72A4852F03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8151B-CADE-453B-A51A-F522F28DA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7FCF-CDED-4BC6-A5EB-9F148D97110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94C3B-3270-41BB-960B-D54D017758B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1375B-9806-4A48-9398-C0FF48305D8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AFA0A-0C8F-4495-9EDD-5D6E2D93D79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DE116-9369-43E2-8F51-BF0A3E59F5C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7A7DE-AE49-4D22-ADB3-3D0A644A107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5ECE3-C06D-49E4-B5DE-3D24476C625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04C11-D365-4F37-8A59-C7067603523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FA5B7-BDE3-44CF-BF88-0847F9C230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26483-8C71-4EB5-89CB-6ABC7AC30A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7D8C9-DBB8-4012-AA2A-EAD8CFBEC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6F76-D6A1-483A-BF9F-21730C685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E7AE-0535-4F88-8FF4-6B3C88F115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AAEAD-45D1-41DA-B510-ADA3BE8D3A3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0666-A89C-4AF2-9177-5FBF488954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23E18-9E08-42A9-A23F-F3195F69CAC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ABB93-C6BE-4A57-98C8-23B81D0B989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050D5-CB68-4561-B2F6-A1E3168627E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377D-742C-4FA5-83A9-36C0D2722B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5C30-D7D3-4849-96B8-DCB505A38ED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6BE1-989B-4B06-A635-0443902D841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1DA4-3D1E-48BA-B7C0-0F891867841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ED76-FF01-4D35-B8E9-6AA5ED4EC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5754-E5A3-49A4-82D4-703ABDE33B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1862-1849-4075-87B9-37F1BC8E7BA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380C-A370-41BD-8F91-86E1C90F61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9C03-7D78-45C5-9AED-3FC6DDD714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B6941-3F0B-4940-BE4A-044FFC2466F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9151-E874-4674-8566-3C1349DB54F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AAAD-49F2-4108-860D-197EF280F2B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209C-D2FC-42B0-8853-D62519D8A35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EF74A-305C-46EE-B2E7-AAC97B9A02B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C63E9-0C2B-4DCE-AE74-25231C7AC27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2AB88-3CF5-4BCA-8672-D68F9A15A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A7A2-4D7D-473B-A568-4530BBE324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9A042-44ED-45CB-8F21-FEAF4365E06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0FE75-B36E-48A7-9A21-3B9C4F1A555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FE8D8-EFF4-4346-99DF-5DD0C2DBE46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A65AE-DC42-4543-BF5F-67E85DB78AD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2817F9-6CD4-4716-8E99-5DFD48F322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61B10-3170-41F9-8D1D-635A5D95A68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EE777-724E-4525-B1FF-6F288157936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DB2C7-92CD-48C6-9645-D9FB8D7C15A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A08F1-6CC5-4976-9315-2659DC44A1C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2923E-9D7D-4724-B368-5CCCA4EAE8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2F0E-05EF-424A-BC84-850AB6FA7B7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B5FAB-9373-4B64-9A78-93E71E71ABC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0D8E3-3D96-478C-910B-18B5597E9E7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EA6C6-BFBC-4D5E-BFBF-44C43C0BC67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7D3E5-8B3A-4EDA-92F4-C4FA2118CE4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659BB-CFA4-49DB-9288-EA82253966C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A7656-DAC1-4CCC-9121-26040CD774B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7D219-545C-4A64-84C4-313C71DFE0E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3F2C1-69D1-4705-B7F2-9EA5EEAF886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CB910-E76C-47FB-AFD0-2C89CB19415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F6806-4C91-4632-810F-119F80B9D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B1F9-A6E2-43B9-93F3-6C74BC39CE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12EB1-C0EE-4688-AC57-E5ACE32213E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0CAE-48D4-4AA9-9FA8-6A9CD6779E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1787-94F4-4AFA-9EF3-2200A7BC165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061C8-F6F8-4AE2-A52D-1AAD4F219C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21E4-2F72-4838-A666-3E7E0521C8F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EE576-2906-4B2C-BA1F-BD9F2750F11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3C66-567A-4576-8274-967F2E2BAB7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C678-A84A-4E40-BF54-541257EF9D5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1073-42C2-474D-82DF-71349DF5406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042F-F166-4C15-8C02-35BB99E3F3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C3E-E1EA-442D-9EC7-57CF1097430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4A1C-6662-4C6E-8336-945CBD6463C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D58C-6F28-4924-9574-10EF25315D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1AC6-ADD6-4C5B-9980-CA3B08E4185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12757-16DD-49D0-952D-DF7CB31BCB4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15608-721F-45F2-B89B-C9EF90C381E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A2F13-0DC7-4405-8F35-DED0648DEA8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277F6-DFEC-4BF9-ABD4-B6CB8D69336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4F271-0D56-4789-967F-0A24E18F76A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0AFD0-5000-4693-B792-E7FB29D129D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96A5F4-0A1F-4CB1-BE84-55B1D149A0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102-92C4-4ACA-8470-935D29A6B4D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67868-FECC-456C-B7F2-438C105EF40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42CBAA-8755-42D1-B837-73067EBA094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733A26-F5EC-44A7-B33F-F2DAB32E235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4D92B-FDF2-41E2-9877-E1B10F97436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28FDB2-AC48-4C70-A3EA-49D7D4FE303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8EBCF-1C52-45D3-AC0B-85EB4CD9A67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708A4-7522-4361-BAD7-179EDCDE66D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A69A5-326D-41A1-998B-298E33DE2EB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32C30-CBA5-4E51-86F4-372D036C86C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73C0E-795F-4993-BDDD-2576F36AA3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D90-C6B1-4498-9A4E-58BD38A99DC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646553-A2A0-4B22-8120-D2A6EF2777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11EAD-AA61-4C2E-8BE7-5662DBA6CE9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DDC05-2D19-43CD-BF3C-B9613F783BE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07D66-8180-4060-91FE-42D58959BD8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B7AC9-D4CB-4264-AF6D-D66360E39C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BA5E0-2B9B-4AEE-8B7D-58792D6EE90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16525-3E52-4174-AFEE-91ED01DB0B7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C0CC9-00EE-4714-A576-B5A54C381B8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65C82-CD8B-401A-AC1A-C0EA493F425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A64D0-941B-41CE-83F5-5BDC865800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52E-6147-4808-B839-652D68458E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0DD7-29FB-4425-A046-4ED74391403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8189-C233-4FC8-A193-2A8C306AE27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0EBC-B822-4F74-8E9E-F551C023EB1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4FD0-51E3-4867-AC29-50927A4CB3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37D0-E000-421A-B858-C465E41CDCE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6DBC-EFFC-4CF5-ADDC-6A284363901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697C8-4B65-4969-A498-01B2BF6600C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3427-7CB4-4180-BF35-979B382CFEF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11EE0-0E38-4C2D-BBC9-9E08CDCA66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7DC-1908-4B72-8D02-3D9F6274C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ECB0-0FA0-4A96-A2F7-1941B26EF5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2B3-A795-4511-A017-4B7A072BC8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144-0B14-46FE-9CF9-23BBD3DE92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87C-B38A-4329-AFFD-E11CF112C4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069-C026-4108-B700-54AE0247C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7C4-DDF8-40A8-ADE0-F49E02435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1F8-D261-4412-8FA8-37BD865CA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1A4-6058-4B5B-A07E-D3EC228BDC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9BA41-A522-48B8-AAE1-B8F81E2B9B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EF882-C990-4CB4-A52F-40DB8968DD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0AE36-EE2F-4F6F-BAC7-1445EF8E1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E5BC-7AD2-41E7-AC19-C4AAE3CF4F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27A15-E8C4-496D-AB31-B02786B0C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F64C-FA7B-4790-B636-6A962D1F46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85D9-2FC8-4B61-A18D-4C25AADED2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B4FD-B728-414E-8A84-817498EDD9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B612D-888A-4615-A47A-91BA48D84B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FDA80-A099-4030-A42F-0DDB12BACA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C4DE5-A6B5-4AFA-9763-50288CA8DD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43D2-6950-466E-A098-478B3CA264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938E7-38AB-413F-AB27-6C5C948E16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1608-C9E9-4660-85FF-98D350E8C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9D9A-0019-4908-9FAD-1872A9817F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7B61-585C-4E37-B13A-F402820C6E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8E40A-9EE8-4B7C-A998-52AD7A2431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7D88D-61B1-47AB-8EC8-0EA547082F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1F4C-2C5E-4433-9DB6-13A18B1C26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603F-1647-4DE3-BBE7-8C2996A2D1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04C0D-06A5-45E0-AC5F-3810B4DB8F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A9B70-7552-42B7-A46C-5AD41396B3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FF08-A3DD-4748-B8CF-E240F45A37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F61AB-2BC6-4313-B326-DD2AA9DD84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52EAD-3873-4EF3-BD58-AFFAFA6A5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59E5-DC10-489A-9A62-24B940E8FF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6311F-8381-47D2-BC57-A09D7F9A1A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20AE-FC1F-4462-9844-D3D04F3041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E1A7-AC32-49F5-BF18-E184ABDEAE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330-B74D-4640-8864-5D238D8F6C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008-685E-410A-A231-9BE32F0E2E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80E-5585-4D8B-968B-09E0F9EE14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C07-E89F-4102-9FF9-F38E7715B1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393-4E5D-4229-B939-4A1C218731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1CA7-9C43-462D-819F-D9DBA1443B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AE0F-D159-4171-BAC5-FD76CC62A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01F2-F99D-47FB-9A30-EDC1418DC5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B430-8C19-4BED-86A7-6C425363D9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3E11-A370-48BD-B9E9-2E1B9203FC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0BC-8886-4E19-B336-273269C310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E863D-278F-451B-99DC-86FAFE29B4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55481-53CB-4E0C-8BE8-0BDE24C8F9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CEE9A-8F13-4AEE-8C99-4A6375C348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FFA58-6BD9-4576-8249-B7A0E111B1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9D477-2C68-4D02-A522-447238BA3C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0E3A3C-1AAD-4739-B735-CCB422537A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FCDC4-1D2F-49E4-81D7-3A957F6B6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ACC-8360-4E90-B1C9-957CFA70CA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13EFD-FBAD-4FAC-8415-C3691C7324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5219A-2B92-4D1D-BDD6-DD7B7EA953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6AA8A-36B2-4220-99BF-D862E08BA4A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DCED7-A666-4876-9071-3BFFFC3795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73001-9A1C-45D3-AB93-A954FB7680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55E8E-93E3-4FCE-9B34-FCD589D9F3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E09F0-2C67-4673-B548-7F46574A42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F0221-DD28-40E0-87F1-48868505CD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B3EA9-7522-4F1B-BC35-3DB60B789B3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F2D7C-27AA-4975-91AB-20A6E623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B01B-17C1-463B-A2BA-73EF45C998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6AD05-C7A6-4063-9DF4-401450754D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A196C-2A65-46DA-8DB6-7FDB423488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1B1A5-187C-4AC9-B168-074DFE3796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772D6-116C-443B-94A8-6E7CC84BE7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ACDD1-E2EE-4A98-896A-A523011E38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96A1F-58F0-48FC-B85D-AE122A028E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9082A-883D-43EB-B390-D229B18C1E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D774-37C4-467A-BD1B-DA82167CBF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3ACF-B866-4292-B336-E5E628EB34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1C6E-7502-4C3C-B66F-D8CC82A48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2DA16-FB87-4A79-BF4E-BC4F45EF2EF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10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DD17F-2FFC-446D-8F05-D96B1D6B9D3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D05B1-2579-464C-AA73-A627FB16A0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2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E3C7D-D83C-441B-ACAF-6323626755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1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BA5B-E5B0-4BAE-A3A6-4889B855FC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61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1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B9BEB-108B-4ED1-A723-D4C043992528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75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75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15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43E17-CE73-4E32-88C5-D0170D5B189B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89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89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16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EC5F6-7BFB-4DF2-B26E-0D78207DCCC1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03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03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B181A-50B3-4F30-8887-F2B11E1E176C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17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18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B8E02-8719-48D9-BD5F-91A7DBEC6DA7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32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32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sldNum" idx="19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6BDF8-BAC7-4948-8465-EF44B670FB7F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0DCD3-5341-4980-A6BD-8F1A813B1D35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46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46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Num" idx="20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0E1E3-2E5E-4AB9-80D5-5521F6512F5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60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60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sldNum" idx="21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12BB5-C5E5-4E3C-BA97-D18BD86C496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74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74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2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C74C8-7381-4757-AFEB-D39D667A6BB8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88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89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sldNum" idx="23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4846E-BA0A-424A-982A-7B8DD1169B62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203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203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2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31574-682F-4891-8F36-7015A1BDC4D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2F25-B2C4-40D1-BB72-8D6E9CDC07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4515E-858A-48B2-ABF4-58E80DE9FA0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5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32D96-EBF3-4BB5-8178-DF382ED5D90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6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1A851-739F-4B98-9378-CFA73AEA4F0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EADD5-E741-4199-842E-17338FAEB51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8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9F81A-840B-4E63-A82C-D158840489C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9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11AF9-717F-46B4-9C4D-EEA9517A54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Rectangle 106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8" name="Picture 107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108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0DC96-3FDF-4737-83BB-2C1E9238D9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7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7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7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8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Rectangle 107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50CD4-7A21-4E40-B7B2-7DADFD5486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6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Rectangle 107"/>
          <p:cNvSpPr/>
          <p:nvPr/>
        </p:nvSpPr>
        <p:spPr>
          <a:xfrm>
            <a:off x="1089000" y="2255760"/>
            <a:ext cx="755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 change in a substance that does not involve a change in the identity of the substance. The substance may look different but it still remains 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Rectangle 108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3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3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4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Rectangle 107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tin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4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4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5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Rectangle 107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0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0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0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8" name="Rectangle 106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Rectangle 107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.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0" name="Picture 108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3711" name="Picture 109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8" name="Picture 10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3819" name="Picture 108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3820" name="Picture 109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3821" name="Picture 110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22" name="Picture 111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3823" name="Picture 112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2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2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2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9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1" name="Picture 108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3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3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3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Rectangle 107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9" name="Picture 108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4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4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4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5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Rectangle 107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7" name="Picture 108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4148" name="Picture 109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5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5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5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4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Rectangle 107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6" name="Picture 108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8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8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8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5" name="Rectangle 106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Rectangle 107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Rectangle 108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F0D4A-F7B4-4CFA-8AD7-2ABA626A6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5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6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5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Rectangle 107"/>
          <p:cNvSpPr/>
          <p:nvPr/>
        </p:nvSpPr>
        <p:spPr>
          <a:xfrm>
            <a:off x="1031760" y="2286000"/>
            <a:ext cx="584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A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5" name="Picture 108" descr=""/>
          <p:cNvPicPr/>
          <p:nvPr/>
        </p:nvPicPr>
        <p:blipFill>
          <a:blip r:embed="rId1"/>
          <a:stretch/>
        </p:blipFill>
        <p:spPr>
          <a:xfrm>
            <a:off x="6734160" y="480060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4366" name="Picture 111" descr="http://upload.wikimedia.org/wikipedia/commons/a/a7/Carbon-monoxide-3D-vdW.png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2050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6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6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6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2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Rectangle 107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Rectangle 108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5" name="Group 1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4476" name="Group 2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4477" name="Line 3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8" name="Line 4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9" name="Line 5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Line 6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1" name="Line 7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2" name="Line 8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3" name="Line 9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Line 10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Line 11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Line 12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7" name="Line 13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8" name="Line 14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Line 15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0" name="Line 16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1" name="Line 17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Line 18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Line 19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Line 20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Line 21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Line 22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Line 23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Line 24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Line 25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Line 26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Line 27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Line 28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Line 29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Line 30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Line 31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Line 32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Line 33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Line 34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Line 35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Line 36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Line 37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Line 38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Line 39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Line 40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Line 41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Line 42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Line 43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Line 44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Line 45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Line 46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Line 47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Line 48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Line 49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Line 50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Line 51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Line 52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Line 53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Line 54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Line 55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Line 56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Line 57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Line 58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Line 59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Line 60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Line 61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Line 62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Line 63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Line 64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Line 65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Line 66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Line 67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Line 68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Line 69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Line 70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Line 71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Line 72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73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Line 74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Line 75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Line 76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Line 77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Line 78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Line 79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Line 80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81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82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83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84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85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Line 86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Line 87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Line 88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Line 89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90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Line 91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Line 92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Line 93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Line 94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Line 95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Line 96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Line 97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98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Line 99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Line 100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5" name="Group 101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4576" name="Rectangle 102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Rectangle 103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Rectangle 104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Rectangle 105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0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Rectangle 107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2" name="Picture 108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4583" name="Picture 109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58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58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68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Rectangle 107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1" name="Rectangle 108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2" name="Freeform 109"/>
          <p:cNvSpPr/>
          <p:nvPr/>
        </p:nvSpPr>
        <p:spPr>
          <a:xfrm>
            <a:off x="1035000" y="5697360"/>
            <a:ext cx="1800" cy="25560"/>
          </a:xfrm>
          <a:custGeom>
            <a:avLst/>
            <a:gdLst>
              <a:gd name="textAreaLeft" fmla="*/ 0 w 1800"/>
              <a:gd name="textAreaRight" fmla="*/ 2160 w 1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60430-67F7-4C24-B403-0179A3190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9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9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9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9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Rectangle 107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1" name="Picture 108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4802" name="Picture 109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4803" name="Rectangle 110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73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B72C6-5CA4-4F2C-AB9C-88D764305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5" name="Group 1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4806" name="Group 2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4807" name="Line 3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8" name="Line 4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9" name="Line 5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0" name="Line 6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1" name="Line 7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2" name="Line 8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3" name="Line 9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4" name="Line 10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5" name="Line 11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6" name="Line 12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7" name="Line 13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8" name="Line 14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9" name="Line 15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0" name="Line 16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1" name="Line 17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2" name="Line 18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3" name="Line 19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4" name="Line 20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5" name="Line 21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6" name="Line 22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7" name="Line 23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Line 24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9" name="Line 25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0" name="Line 26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1" name="Line 27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2" name="Line 28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3" name="Line 29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4" name="Line 30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5" name="Line 31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6" name="Line 32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7" name="Line 33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8" name="Line 34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9" name="Line 35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0" name="Line 36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1" name="Line 37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2" name="Line 38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3" name="Line 39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4" name="Line 40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5" name="Line 41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6" name="Line 42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7" name="Line 43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8" name="Line 44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9" name="Line 45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0" name="Line 46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1" name="Line 47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2" name="Line 48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3" name="Line 49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4" name="Line 50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5" name="Line 51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6" name="Line 52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7" name="Line 53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8" name="Line 54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9" name="Line 55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0" name="Line 56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1" name="Line 57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2" name="Line 58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3" name="Line 59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4" name="Line 60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5" name="Line 61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6" name="Line 62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7" name="Line 63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8" name="Line 64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9" name="Line 65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0" name="Line 66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1" name="Line 67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2" name="Line 68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3" name="Line 69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4" name="Line 70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5" name="Line 71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6" name="Line 72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7" name="Line 73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8" name="Line 74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9" name="Line 75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0" name="Line 76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1" name="Line 77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2" name="Line 78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3" name="Line 79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4" name="Line 80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5" name="Line 81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6" name="Line 82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7" name="Line 83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8" name="Line 84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9" name="Line 85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0" name="Line 86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1" name="Line 87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2" name="Line 88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3" name="Line 89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4" name="Line 90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5" name="Line 91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6" name="Line 92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7" name="Line 93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8" name="Line 94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9" name="Line 95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0" name="Line 96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1" name="Line 97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2" name="Line 98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3" name="Line 99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4" name="Line 100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5" name="Group 101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4906" name="Rectangle 102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7" name="Rectangle 103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8" name="Rectangle 104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9" name="Rectangle 105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0" name="Rectangle 106"/>
          <p:cNvSpPr/>
          <p:nvPr/>
        </p:nvSpPr>
        <p:spPr>
          <a:xfrm>
            <a:off x="1371600" y="106668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1" name="Rectangle 107"/>
          <p:cNvSpPr/>
          <p:nvPr/>
        </p:nvSpPr>
        <p:spPr>
          <a:xfrm>
            <a:off x="990720" y="2590920"/>
            <a:ext cx="75564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2" name="Picture 108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BDBCA-1A09-4B22-A295-AEBA9816C3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91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91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1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01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9" name="Picture 106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2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2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12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5" name="Rectangle 106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6" name="Picture 107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5127" name="Picture 108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5128" name="Picture 109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5129" name="Picture 110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5130" name="Picture 111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5131" name="Picture 112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132" name="Text Box 113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Text Box 114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4" name="Text Box 115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5" name="Text Box 116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Text Box 117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Text Box 118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1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1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2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3" name="Rectangle 106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4" name="Group 107"/>
          <p:cNvGrpSpPr/>
          <p:nvPr/>
        </p:nvGrpSpPr>
        <p:grpSpPr>
          <a:xfrm>
            <a:off x="3809880" y="2133720"/>
            <a:ext cx="1522440" cy="379440"/>
            <a:chOff x="3809880" y="2133720"/>
            <a:chExt cx="1522440" cy="379440"/>
          </a:xfrm>
        </p:grpSpPr>
        <p:sp>
          <p:nvSpPr>
            <p:cNvPr id="5245" name="Rectangle 108"/>
            <p:cNvSpPr/>
            <p:nvPr/>
          </p:nvSpPr>
          <p:spPr>
            <a:xfrm>
              <a:off x="380988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6" name="Rectangle 109"/>
            <p:cNvSpPr/>
            <p:nvPr/>
          </p:nvSpPr>
          <p:spPr>
            <a:xfrm>
              <a:off x="412380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7" name="Group 110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5248" name="Rectangle 111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9" name="Rectangle 112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0" name="Group 113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5251" name="Rectangle 114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2" name="Rectangle 115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3" name="Group 116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5254" name="Rectangle 117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5" name="Rectangle 118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6" name="Group 119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5257" name="Rectangle 120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8" name="Rectangle 121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9" name="Group 122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5260" name="Rectangle 123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1" name="Rectangle 124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2" name="Line 125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Line 126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Line 127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5" name="Group 128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5266" name="Rectangle 129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7" name="Rectangle 130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8" name="Line 131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9" name="Line 132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Line 133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Rectangle 134"/>
          <p:cNvSpPr/>
          <p:nvPr/>
        </p:nvSpPr>
        <p:spPr>
          <a:xfrm>
            <a:off x="2133720" y="3352680"/>
            <a:ext cx="69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Rectangle 135"/>
          <p:cNvSpPr/>
          <p:nvPr/>
        </p:nvSpPr>
        <p:spPr>
          <a:xfrm>
            <a:off x="6464160" y="337824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3" name="Group 136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5274" name="Rectangle 137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5" name="Rectangle 138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6" name="Group 139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5277" name="Rectangle 140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8" name="Rectangle 141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9" name="Group 142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5280" name="Rectangle 143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1" name="Rectangle 144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2" name="Line 145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Line 146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4" name="Line 147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5" name="Rectangle 148"/>
          <p:cNvSpPr/>
          <p:nvPr/>
        </p:nvSpPr>
        <p:spPr>
          <a:xfrm>
            <a:off x="673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6" name="Rectangle 149"/>
          <p:cNvSpPr/>
          <p:nvPr/>
        </p:nvSpPr>
        <p:spPr>
          <a:xfrm>
            <a:off x="4038480" y="543564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7" name="Rectangle 150"/>
          <p:cNvSpPr/>
          <p:nvPr/>
        </p:nvSpPr>
        <p:spPr>
          <a:xfrm>
            <a:off x="5029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Rectangle 151"/>
          <p:cNvSpPr/>
          <p:nvPr/>
        </p:nvSpPr>
        <p:spPr>
          <a:xfrm>
            <a:off x="8077320" y="5486400"/>
            <a:ext cx="85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5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2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2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3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5" name="Rectangle 107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6" name="Rectangle 108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7" name="Rectangle 109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7B432-61C5-4061-B313-1E3088EDC2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2057040" y="2214720"/>
            <a:ext cx="558468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8" name="Picture 1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5399" name="Picture 2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5400" name="Group 3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401" name="Group 4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402" name="Line 5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Line 6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Line 7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5" name="Line 8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6" name="Line 9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7" name="Line 10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8" name="Line 11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9" name="Line 12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0" name="Line 13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1" name="Line 14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2" name="Line 15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3" name="Line 16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4" name="Line 17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5" name="Line 18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6" name="Line 19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7" name="Line 20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8" name="Line 21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9" name="Line 22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0" name="Line 23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1" name="Line 24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2" name="Line 25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3" name="Line 26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4" name="Line 27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5" name="Line 28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6" name="Line 29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7" name="Line 30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8" name="Line 31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9" name="Line 32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0" name="Line 33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1" name="Line 34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2" name="Line 35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3" name="Line 36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4" name="Line 37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5" name="Line 38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6" name="Line 39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Line 40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8" name="Line 41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9" name="Line 42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0" name="Line 43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1" name="Line 44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2" name="Line 45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3" name="Line 46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4" name="Line 47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5" name="Line 48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6" name="Line 49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7" name="Line 50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8" name="Line 51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9" name="Line 52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0" name="Line 53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1" name="Line 54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2" name="Line 55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3" name="Line 56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4" name="Line 57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5" name="Line 58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6" name="Line 59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7" name="Line 60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8" name="Line 61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9" name="Line 62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0" name="Line 63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1" name="Line 64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2" name="Line 65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3" name="Line 66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4" name="Line 67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5" name="Line 68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6" name="Line 69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7" name="Line 70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8" name="Line 71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9" name="Line 72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0" name="Line 73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1" name="Line 74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2" name="Line 75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3" name="Line 76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4" name="Line 77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5" name="Line 78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6" name="Line 79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7" name="Line 80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8" name="Line 81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Line 82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0" name="Line 83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1" name="Line 84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2" name="Line 85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3" name="Line 86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4" name="Line 87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5" name="Line 88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6" name="Line 89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7" name="Line 90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8" name="Line 91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9" name="Line 92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0" name="Line 93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1" name="Line 94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2" name="Line 95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3" name="Line 96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4" name="Line 97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5" name="Line 98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6" name="Line 99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7" name="Line 100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8" name="Line 101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9" name="Line 102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0" name="Group 103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501" name="Rectangle 104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2" name="Rectangle 105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3" name="Rectangle 106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4" name="Rectangle 107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5" name="Rectangle 108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Rectangle 109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50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50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60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2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3" name="Rectangle 107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5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5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5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12DED-A9D7-44C7-9891-75800F34A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61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61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71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72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72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82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8" name="Rectangle 107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9" name="Picture 108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83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83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3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93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35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6" name="Rectangle 107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7" name="Picture 108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9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9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Rectangle 108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Rectangle 109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7" name="Picture 110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04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05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4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14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4" name="Rectangle 107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5" name="Picture 108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5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5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5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25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Rectangle 107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3" name="Picture 108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26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26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6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36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0" name="Rectangle 107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1" name="Picture 108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3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3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4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9" name="Picture 108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6480" name="Picture 109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4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4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5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2" name=""/>
          <p:cNvGraphicFramePr/>
          <p:nvPr/>
        </p:nvGraphicFramePr>
        <p:xfrm>
          <a:off x="809640" y="2214720"/>
          <a:ext cx="7962840" cy="4632120"/>
        </p:xfrm>
        <a:graphic>
          <a:graphicData uri="http://schemas.openxmlformats.org/drawingml/2006/table">
            <a:tbl>
              <a:tblPr/>
              <a:tblGrid>
                <a:gridCol w="1852560"/>
                <a:gridCol w="2371680"/>
                <a:gridCol w="3738600"/>
              </a:tblGrid>
              <a:tr h="59364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4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4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5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7" name="Rectangle 107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8" name="Picture 108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5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5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6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Rectangle 107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6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6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7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2" name="Rectangle 107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0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0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0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9" name=""/>
          <p:cNvGraphicFramePr/>
          <p:nvPr/>
        </p:nvGraphicFramePr>
        <p:xfrm>
          <a:off x="762120" y="2286000"/>
          <a:ext cx="811044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548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0" name="Rectangle 138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Rectangle 139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Rectangle 140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AutoShape 1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4" name="Group 2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715" name="Group 3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716" name="Line 4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Line 5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Line 6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Line 7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Line 8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Line 9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Line 10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Line 11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Line 12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Line 13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14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15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16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17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18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19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20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21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22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23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24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25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26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27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28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29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30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31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32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Line 33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Line 34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Line 35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Line 36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Line 37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Line 38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Line 39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40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41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42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43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44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45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46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47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48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49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50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51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52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53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54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55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56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57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58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Line 59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Line 60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Line 61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Line 62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Line 63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Line 64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Line 65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Line 66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Line 67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Line 68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Line 69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Line 70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Line 71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Line 72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Line 73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Line 74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Line 75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Line 76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Line 77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Line 78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Line 79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Line 80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Line 81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Line 82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Line 83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Line 84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Line 85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Line 86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Line 87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Line 88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Line 89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Line 90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Line 91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92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93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94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95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96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97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98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99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100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101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4" name="Group 102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15" name="Rectangle 103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Rectangle 104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Rectangle 105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Rectangle 106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9" name="Rectangle 107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0" name="Group 108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2821" name="AutoShape 109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Rectangle 110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3" name="Group 111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2824" name="AutoShape 112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Rectangle 113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6" name="Group 114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827" name="AutoShape 115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Rectangle 116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9" name="AutoShape 117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Rectangle 118"/>
          <p:cNvSpPr/>
          <p:nvPr/>
        </p:nvSpPr>
        <p:spPr>
          <a:xfrm>
            <a:off x="2529720" y="38242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AutoShape 119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Rectangle 120"/>
          <p:cNvSpPr/>
          <p:nvPr/>
        </p:nvSpPr>
        <p:spPr>
          <a:xfrm>
            <a:off x="5392800" y="383544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AutoShape 121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Rectangle 122"/>
          <p:cNvSpPr/>
          <p:nvPr/>
        </p:nvSpPr>
        <p:spPr>
          <a:xfrm>
            <a:off x="5410080" y="4419720"/>
            <a:ext cx="1879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Rectangle 123"/>
          <p:cNvSpPr/>
          <p:nvPr/>
        </p:nvSpPr>
        <p:spPr>
          <a:xfrm>
            <a:off x="2591280" y="43434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AutoShape 124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Rectangle 125"/>
          <p:cNvSpPr/>
          <p:nvPr/>
        </p:nvSpPr>
        <p:spPr>
          <a:xfrm>
            <a:off x="365112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AutoShape 126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Rectangle 127"/>
          <p:cNvSpPr/>
          <p:nvPr/>
        </p:nvSpPr>
        <p:spPr>
          <a:xfrm>
            <a:off x="381096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73BA1-AFAC-4642-A138-E7CD959E9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84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84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94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6" name="Rectangle 106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AutoShape 107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Rectangle 108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9" name="Group 109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950" name="AutoShape 110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Rectangle 111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2" name="AutoShape 112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113"/>
          <p:cNvSpPr/>
          <p:nvPr/>
        </p:nvSpPr>
        <p:spPr>
          <a:xfrm>
            <a:off x="365040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AutoShape 114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Rectangle 115"/>
          <p:cNvSpPr/>
          <p:nvPr/>
        </p:nvSpPr>
        <p:spPr>
          <a:xfrm>
            <a:off x="396252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5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5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5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Rectangle 107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Rectangle 108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6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6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6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9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Rectangle 107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Dens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Lengt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Rectangle 108"/>
          <p:cNvSpPr/>
          <p:nvPr/>
        </p:nvSpPr>
        <p:spPr>
          <a:xfrm>
            <a:off x="4902120" y="3060720"/>
            <a:ext cx="30621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Press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> </cp:lastModifiedBy>
  <dcterms:modified xsi:type="dcterms:W3CDTF">2012-02-23T15:09:42Z</dcterms:modified>
  <cp:revision>15</cp:revision>
  <dc:subject/>
  <dc:title>Matter and Change</dc:title>
</cp:coreProperties>
</file>